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34B-19F2-4547-9DF0-8091C87D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19F-6D28-4E65-B9F7-00AF58B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655-E6B9-4339-B501-3ECE6BC9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5C5-DE37-4FD2-AF57-3AE3D5C9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DF7B7-4FBE-4327-8F33-38CA1DA596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4F88-28F1-451B-8ED8-E02DB6BE49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2463-34E1-4491-9105-6F0ED0945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3B64D-C886-4A1D-88BC-3314978394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21F5-6EFE-47BD-833C-792A68D543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DD0B6-3F8D-4EC1-A966-95E8A3844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F9DE7-B030-4CD6-B83C-5ED347948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07D-4425-441A-AF46-2410316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EB97E-331E-4FAA-9398-B5A7B46638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496ED-7F1B-4399-8C3A-8805058D7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253FE-5AA7-4521-A8E0-1BA9A108B9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57E57-C5EF-4808-ADDE-59FA0EB337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C8E1F-2C97-4F79-A544-BE5A8CADA9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EC1-1048-4218-B985-5D4EF4D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F33-5088-47D4-B409-EB6137C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BE0-7E69-46E0-9D57-8021952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5E-E403-424F-BA99-0F548FF2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8E7-7B42-4E63-BD46-2A2B592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19E-9881-4326-AD66-0D45264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7A3-36AA-496B-A5CF-4B3BF04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35E1-CC94-42FB-B8E6-7A46003D86D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E55-F9E5-47E2-A1BB-77D14641C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DDB-79CE-4B6B-8275-E8ED7706BE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630520" y="3149640"/>
            <a:ext cx="58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De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or Re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203720" y="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316160" y="1603080"/>
            <a:ext cx="74498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the price of substitute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the price of complementary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844560" y="0"/>
            <a:ext cx="8299440" cy="1359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8C7DBA4B-D2DA-421B-8921-BB56FF30B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1" dur="1" fill="hold"/>
                                  <p:tgtEl>
                                    <p:spTgt spid="3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ing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ing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saving technologic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A9C783A-EAAB-49CA-96FA-FDEBE375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5" dur="1" fill="hold"/>
                                  <p:tgtEl>
                                    <p:spTgt spid="3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9520" y="0"/>
            <a:ext cx="83041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2881080"/>
            <a:ext cx="779796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e of resource 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ity of product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 of resource cost to tot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8"/>
          <p:cNvGrpSpPr/>
          <p:nvPr/>
        </p:nvGrpSpPr>
        <p:grpSpPr>
          <a:xfrm>
            <a:off x="1566000" y="1741320"/>
            <a:ext cx="6529680" cy="874440"/>
            <a:chOff x="1566000" y="1741320"/>
            <a:chExt cx="6529680" cy="874440"/>
          </a:xfrm>
        </p:grpSpPr>
        <p:sp>
          <p:nvSpPr>
            <p:cNvPr id="400" name="Text Box 4"/>
            <p:cNvSpPr/>
            <p:nvPr/>
          </p:nvSpPr>
          <p:spPr>
            <a:xfrm>
              <a:off x="1566000" y="1828440"/>
              <a:ext cx="1250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2907000" y="1741320"/>
              <a:ext cx="51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3111840" y="2204640"/>
              <a:ext cx="47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>
              <a:off x="2935080" y="2176200"/>
              <a:ext cx="513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FB2CCD7-81AA-4C72-B980-C7A866E8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6" dur="1" fill="hold"/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Combination of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17080" y="1807920"/>
            <a:ext cx="7721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resource inputs are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optimal comb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cost of producing a given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B955207-1BF1-42B8-ADD3-605D43EB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5" dur="1" fill="hold"/>
                                  <p:tgtEl>
                                    <p:spTgt spid="4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st Cos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25120" y="1388880"/>
            <a:ext cx="8318520" cy="28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cost of producing a given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dollar spent on each resource yields the same marginal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2"/>
          <p:cNvGrpSpPr/>
          <p:nvPr/>
        </p:nvGrpSpPr>
        <p:grpSpPr>
          <a:xfrm>
            <a:off x="1596960" y="4626000"/>
            <a:ext cx="6827760" cy="1429200"/>
            <a:chOff x="1596960" y="4626000"/>
            <a:chExt cx="6827760" cy="1429200"/>
          </a:xfrm>
        </p:grpSpPr>
        <p:sp>
          <p:nvSpPr>
            <p:cNvPr id="411" name="Text Box 4"/>
            <p:cNvSpPr/>
            <p:nvPr/>
          </p:nvSpPr>
          <p:spPr>
            <a:xfrm>
              <a:off x="1779840" y="4648320"/>
              <a:ext cx="2483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Labor (M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5"/>
            <p:cNvSpPr/>
            <p:nvPr/>
          </p:nvSpPr>
          <p:spPr>
            <a:xfrm>
              <a:off x="1694880" y="5545080"/>
              <a:ext cx="266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 of Labor (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5604120" y="4626000"/>
              <a:ext cx="2483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Capital (M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5428800" y="5541840"/>
              <a:ext cx="28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 of Capital (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1596960" y="5496120"/>
              <a:ext cx="300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5423040" y="5492880"/>
              <a:ext cx="30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4792680" y="51832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184E2CB-21FC-4515-8C77-5803A6E2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4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Maximiz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15560" y="1762200"/>
            <a:ext cx="783612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P of each resource equals its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3"/>
          <p:cNvGrpSpPr/>
          <p:nvPr/>
        </p:nvGrpSpPr>
        <p:grpSpPr>
          <a:xfrm>
            <a:off x="2205000" y="4600440"/>
            <a:ext cx="5113080" cy="1242360"/>
            <a:chOff x="2205000" y="4600440"/>
            <a:chExt cx="5113080" cy="1242360"/>
          </a:xfrm>
        </p:grpSpPr>
        <p:sp>
          <p:nvSpPr>
            <p:cNvPr id="422" name="Text Box 5"/>
            <p:cNvSpPr/>
            <p:nvPr/>
          </p:nvSpPr>
          <p:spPr>
            <a:xfrm>
              <a:off x="2484720" y="4600440"/>
              <a:ext cx="1215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6"/>
            <p:cNvSpPr/>
            <p:nvPr/>
          </p:nvSpPr>
          <p:spPr>
            <a:xfrm>
              <a:off x="2800800" y="519408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4884120" y="4600440"/>
              <a:ext cx="1253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5196960" y="5194080"/>
              <a:ext cx="621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2205000" y="5214960"/>
              <a:ext cx="177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4605480" y="5211720"/>
              <a:ext cx="179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4048200" y="49021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2"/>
            <p:cNvSpPr/>
            <p:nvPr/>
          </p:nvSpPr>
          <p:spPr>
            <a:xfrm>
              <a:off x="6489720" y="4898880"/>
              <a:ext cx="82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26"/>
          <p:cNvGrpSpPr/>
          <p:nvPr/>
        </p:nvGrpSpPr>
        <p:grpSpPr>
          <a:xfrm>
            <a:off x="1680120" y="3441600"/>
            <a:ext cx="6473880" cy="648720"/>
            <a:chOff x="1680120" y="3441600"/>
            <a:chExt cx="6473880" cy="648720"/>
          </a:xfrm>
        </p:grpSpPr>
        <p:grpSp>
          <p:nvGrpSpPr>
            <p:cNvPr id="431" name="Group 24"/>
            <p:cNvGrpSpPr/>
            <p:nvPr/>
          </p:nvGrpSpPr>
          <p:grpSpPr>
            <a:xfrm>
              <a:off x="1680120" y="3441600"/>
              <a:ext cx="2373840" cy="648720"/>
              <a:chOff x="1680120" y="3441600"/>
              <a:chExt cx="2373840" cy="648720"/>
            </a:xfrm>
          </p:grpSpPr>
          <p:sp>
            <p:nvSpPr>
              <p:cNvPr id="432" name="Text Box 15"/>
              <p:cNvSpPr/>
              <p:nvPr/>
            </p:nvSpPr>
            <p:spPr>
              <a:xfrm>
                <a:off x="2838600" y="3441600"/>
                <a:ext cx="1215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16"/>
              <p:cNvSpPr/>
              <p:nvPr/>
            </p:nvSpPr>
            <p:spPr>
              <a:xfrm>
                <a:off x="1680120" y="344160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21"/>
              <p:cNvSpPr/>
              <p:nvPr/>
            </p:nvSpPr>
            <p:spPr>
              <a:xfrm>
                <a:off x="2376720" y="344160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5528880" y="3441600"/>
              <a:ext cx="2625120" cy="648720"/>
              <a:chOff x="5528880" y="3441600"/>
              <a:chExt cx="2625120" cy="648720"/>
            </a:xfrm>
          </p:grpSpPr>
          <p:sp>
            <p:nvSpPr>
              <p:cNvPr id="436" name="Text Box 17"/>
              <p:cNvSpPr/>
              <p:nvPr/>
            </p:nvSpPr>
            <p:spPr>
              <a:xfrm>
                <a:off x="6900480" y="3441600"/>
                <a:ext cx="1253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8"/>
              <p:cNvSpPr/>
              <p:nvPr/>
            </p:nvSpPr>
            <p:spPr>
              <a:xfrm>
                <a:off x="5528880" y="3441600"/>
                <a:ext cx="621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22"/>
              <p:cNvSpPr/>
              <p:nvPr/>
            </p:nvSpPr>
            <p:spPr>
              <a:xfrm>
                <a:off x="6338880" y="344160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23"/>
            <p:cNvSpPr/>
            <p:nvPr/>
          </p:nvSpPr>
          <p:spPr>
            <a:xfrm>
              <a:off x="4259160" y="346716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FF0BCD11-2CB6-4505-B088-27277800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8720" y="-360"/>
            <a:ext cx="8315280" cy="125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88480" y="1523880"/>
            <a:ext cx="825516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d according to value of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own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resources unequally distrib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Imperf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8D4A832-0F6D-4213-8A48-FD72B4CF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1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of AT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2960" y="1584360"/>
            <a:ext cx="79628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ks use ATMs instead of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t-cost combination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s debut about 35 years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 billion U.S. transactions per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,000 tellers eliminated1990-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r tellers find new 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 conveni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812EB975-4012-4CEA-A6B6-ECAE1350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6" dur="1" fill="hold"/>
                                  <p:tgtEl>
                                    <p:spTgt spid="4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155240" y="1332000"/>
            <a:ext cx="7721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revenue product (M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resource cost (M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P=MRC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-cost combin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-maximizing combin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productivity theory of incom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A663F82-8555-4A36-98DD-0B6F5CFA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390400" y="2646360"/>
            <a:ext cx="4275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0A1A620-4547-4960-A6A4-580A317A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1247400"/>
            <a:ext cx="790416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productivity and firm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combination of resources for the competitive fi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7F84AF4B-64AF-4E3C-A767-4777EEEC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Labo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90720" y="1422000"/>
            <a:ext cx="81532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demand for 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of firm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 carp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upply for 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ward sl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on among indus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 market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P = MRC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4529DDA0-6F09-4DB0-A022-24B74D5D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4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5830920" y="2259000"/>
            <a:ext cx="293040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9"/>
          <p:cNvSpPr/>
          <p:nvPr/>
        </p:nvSpPr>
        <p:spPr>
          <a:xfrm>
            <a:off x="5835600" y="3701880"/>
            <a:ext cx="768240" cy="1206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8"/>
          <p:cNvSpPr/>
          <p:nvPr/>
        </p:nvSpPr>
        <p:spPr>
          <a:xfrm>
            <a:off x="5835600" y="2654280"/>
            <a:ext cx="793800" cy="1047600"/>
          </a:xfrm>
          <a:prstGeom prst="rtTriangl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278080" y="2259000"/>
            <a:ext cx="293040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7"/>
          <p:cNvSpPr/>
          <p:nvPr/>
        </p:nvSpPr>
        <p:spPr>
          <a:xfrm>
            <a:off x="2544840" y="2841480"/>
            <a:ext cx="2070000" cy="128916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"/>
          <p:cNvSpPr/>
          <p:nvPr/>
        </p:nvSpPr>
        <p:spPr>
          <a:xfrm>
            <a:off x="2719440" y="2787480"/>
            <a:ext cx="1398600" cy="1444680"/>
          </a:xfrm>
          <a:prstGeom prst="pie">
            <a:avLst/>
          </a:pr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>
            <a:off x="5827680" y="3697200"/>
            <a:ext cx="19717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 rot="16200000">
            <a:off x="864000" y="354276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 rot="16200000">
            <a:off x="4439160" y="353952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1814760" y="3567240"/>
            <a:ext cx="537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$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5367600" y="3575160"/>
            <a:ext cx="537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$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850480" y="180828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326640" y="1808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2703600" y="526104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6400800" y="525780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3355200" y="486252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3235320" y="50817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206820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63688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4"/>
          <p:cNvSpPr/>
          <p:nvPr/>
        </p:nvSpPr>
        <p:spPr>
          <a:xfrm>
            <a:off x="5827680" y="2654280"/>
            <a:ext cx="1585800" cy="189540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4047840" y="4178160"/>
            <a:ext cx="1067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rp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7200360" y="44751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=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6428520" y="4859280"/>
            <a:ext cx="363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6426360" y="50785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6610320" y="3708360"/>
            <a:ext cx="0" cy="1200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3551400" y="3699000"/>
            <a:ext cx="0" cy="1199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7763040" y="351648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3"/>
          <p:cNvSpPr/>
          <p:nvPr/>
        </p:nvSpPr>
        <p:spPr>
          <a:xfrm>
            <a:off x="6543720" y="362412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5"/>
          <p:cNvSpPr/>
          <p:nvPr/>
        </p:nvSpPr>
        <p:spPr>
          <a:xfrm flipH="1">
            <a:off x="2270160" y="3691080"/>
            <a:ext cx="1278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34"/>
          <p:cNvSpPr/>
          <p:nvPr/>
        </p:nvSpPr>
        <p:spPr>
          <a:xfrm>
            <a:off x="3478320" y="362412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6"/>
          <p:cNvSpPr/>
          <p:nvPr/>
        </p:nvSpPr>
        <p:spPr>
          <a:xfrm>
            <a:off x="4140000" y="2554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3778200" y="3568680"/>
            <a:ext cx="1400400" cy="243000"/>
          </a:xfrm>
          <a:prstGeom prst="rightArrow">
            <a:avLst>
              <a:gd name="adj1" fmla="val 50000"/>
              <a:gd name="adj2" fmla="val 144074"/>
            </a:avLst>
          </a:prstGeom>
          <a:gradFill rotWithShape="0">
            <a:gsLst>
              <a:gs pos="0">
                <a:srgbClr val="ffffff"/>
              </a:gs>
              <a:gs pos="100000">
                <a:srgbClr val="9900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0"/>
          <p:cNvSpPr/>
          <p:nvPr/>
        </p:nvSpPr>
        <p:spPr>
          <a:xfrm>
            <a:off x="5759640" y="3390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6564240" y="4637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2"/>
          <p:cNvSpPr/>
          <p:nvPr/>
        </p:nvSpPr>
        <p:spPr>
          <a:xfrm>
            <a:off x="6546960" y="33638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3"/>
          <p:cNvSpPr/>
          <p:nvPr/>
        </p:nvSpPr>
        <p:spPr>
          <a:xfrm>
            <a:off x="5775480" y="2400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812880" y="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Labo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0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5E71BE23-67FB-492F-89C4-02ADEA47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0"/>
                            </p:stCondLst>
                            <p:childTnLst>
                              <p:par>
                                <p:cTn id="9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7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0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900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90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son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01440" y="1295280"/>
            <a:ext cx="82422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er has buying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bu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im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“wage mak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 labor supply upward sl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C higher than wage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569313E-6315-4D6B-80CD-58FE8C961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9" dur="1" fill="hold"/>
                                  <p:tgtEl>
                                    <p:spTgt spid="4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2901960" y="1873080"/>
            <a:ext cx="5157720" cy="331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 rot="16200000">
            <a:off x="1337400" y="33156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297320" y="55706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666880" y="5141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670720" y="2041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7190280" y="4172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683600" y="18972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5091120" y="3544920"/>
            <a:ext cx="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7"/>
          <p:cNvSpPr/>
          <p:nvPr/>
        </p:nvSpPr>
        <p:spPr>
          <a:xfrm>
            <a:off x="4662360" y="3205080"/>
            <a:ext cx="0" cy="198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8"/>
          <p:cNvSpPr/>
          <p:nvPr/>
        </p:nvSpPr>
        <p:spPr>
          <a:xfrm flipH="1">
            <a:off x="2901960" y="3533760"/>
            <a:ext cx="217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 flipH="1">
            <a:off x="2898360" y="3930480"/>
            <a:ext cx="1738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3973680" y="2584440"/>
            <a:ext cx="3206520" cy="1716120"/>
          </a:xfrm>
          <a:prstGeom prst="pie">
            <a:avLst/>
          </a:pr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2"/>
          <p:cNvSpPr/>
          <p:nvPr/>
        </p:nvSpPr>
        <p:spPr>
          <a:xfrm>
            <a:off x="3701880" y="2155680"/>
            <a:ext cx="1265400" cy="21337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"/>
          <p:cNvSpPr/>
          <p:nvPr/>
        </p:nvSpPr>
        <p:spPr>
          <a:xfrm>
            <a:off x="3726000" y="2300400"/>
            <a:ext cx="2065320" cy="230328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4681440" y="379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4467600" y="28274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5108760" y="3301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3"/>
          <p:cNvSpPr/>
          <p:nvPr/>
        </p:nvSpPr>
        <p:spPr>
          <a:xfrm>
            <a:off x="4591080" y="3846600"/>
            <a:ext cx="147600" cy="147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512800" y="337824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2500920" y="3774960"/>
            <a:ext cx="43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6"/>
          <p:cNvSpPr/>
          <p:nvPr/>
        </p:nvSpPr>
        <p:spPr>
          <a:xfrm>
            <a:off x="4453200" y="5160960"/>
            <a:ext cx="41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4903200" y="5157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8"/>
          <p:cNvSpPr/>
          <p:nvPr/>
        </p:nvSpPr>
        <p:spPr>
          <a:xfrm>
            <a:off x="1164600" y="5962680"/>
            <a:ext cx="68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monopsony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son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B3CFD07-15FF-4E83-9DEA-C58B9825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3680" y="-360"/>
            <a:ext cx="831996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7760" y="150336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dem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 prices are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-income de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min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05ABCF04-961D-4F80-A003-32931B72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3217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64800" y="1362240"/>
            <a:ext cx="81788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markets are competi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ood and resour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ed demand depends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ty of resource (M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of good it helps produce (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product (MR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TR resulting from unit change in resource (lab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29B5AEC-75E2-490C-A29C-46B00F56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1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963720" y="1295280"/>
            <a:ext cx="7066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 for employing resourc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P = M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8"/>
          <p:cNvGrpSpPr/>
          <p:nvPr/>
        </p:nvGrpSpPr>
        <p:grpSpPr>
          <a:xfrm>
            <a:off x="2299320" y="3263760"/>
            <a:ext cx="5860440" cy="940320"/>
            <a:chOff x="2299320" y="3263760"/>
            <a:chExt cx="5860440" cy="940320"/>
          </a:xfrm>
        </p:grpSpPr>
        <p:sp>
          <p:nvSpPr>
            <p:cNvPr id="136" name="Text Box 6"/>
            <p:cNvSpPr/>
            <p:nvPr/>
          </p:nvSpPr>
          <p:spPr>
            <a:xfrm>
              <a:off x="2299320" y="3263760"/>
              <a:ext cx="113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3414240" y="350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3859200" y="3743280"/>
              <a:ext cx="42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4394520" y="3319200"/>
              <a:ext cx="32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3849120" y="380520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7"/>
          <p:cNvGrpSpPr/>
          <p:nvPr/>
        </p:nvGrpSpPr>
        <p:grpSpPr>
          <a:xfrm>
            <a:off x="2439360" y="5283360"/>
            <a:ext cx="5860440" cy="951480"/>
            <a:chOff x="2439360" y="5283360"/>
            <a:chExt cx="5860440" cy="951480"/>
          </a:xfrm>
        </p:grpSpPr>
        <p:sp>
          <p:nvSpPr>
            <p:cNvPr id="142" name="Text Box 7"/>
            <p:cNvSpPr/>
            <p:nvPr/>
          </p:nvSpPr>
          <p:spPr>
            <a:xfrm>
              <a:off x="2439360" y="5283360"/>
              <a:ext cx="12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3587400" y="5543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3998880" y="5774040"/>
              <a:ext cx="429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4081320" y="5324760"/>
              <a:ext cx="412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(Resource)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989160" y="583596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1479240" y="2505240"/>
            <a:ext cx="74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venue Product  (MR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1566000" y="439092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source Cost  (M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22240" y="0"/>
            <a:ext cx="83217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1534A4E-25A2-445E-8899-6655F8FD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5"/>
          <p:cNvSpPr/>
          <p:nvPr/>
        </p:nvSpPr>
        <p:spPr>
          <a:xfrm>
            <a:off x="7781760" y="1981080"/>
            <a:ext cx="514440" cy="278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0288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9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154" name="Rectangle 68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2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22504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235920" y="1900080"/>
            <a:ext cx="49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711920" y="1919160"/>
            <a:ext cx="56016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5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168" name="Group 26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169" name="Text Box 18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5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27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172" name="Text Box 28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0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175" name="Text Box 31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3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178" name="Text Box 34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6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181" name="Text Box 37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9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184" name="Text Box 40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42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187" name="Text Box 43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6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190" name="Group 47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191" name="Text Box 48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49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50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194" name="Text Box 51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53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197" name="Text Box 54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5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56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200" name="Text Box 57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58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9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203" name="Text Box 60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1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62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206" name="Text Box 63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4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65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209" name="Text Box 66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7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25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212" name="Rectangle 70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90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214" name="Line 71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84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5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86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87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88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89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24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222" name="Line 92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20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21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22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7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233" name="Text Box 126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7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28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29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0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1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32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58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241" name="Text Box 133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4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5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6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7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8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9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40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1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42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43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44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5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3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6"/>
          <p:cNvSpPr/>
          <p:nvPr/>
        </p:nvSpPr>
        <p:spPr>
          <a:xfrm>
            <a:off x="4273560" y="4699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7"/>
          <p:cNvSpPr/>
          <p:nvPr/>
        </p:nvSpPr>
        <p:spPr>
          <a:xfrm>
            <a:off x="4546440" y="490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8"/>
          <p:cNvSpPr/>
          <p:nvPr/>
        </p:nvSpPr>
        <p:spPr>
          <a:xfrm>
            <a:off x="4832280" y="510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49"/>
          <p:cNvSpPr/>
          <p:nvPr/>
        </p:nvSpPr>
        <p:spPr>
          <a:xfrm>
            <a:off x="511812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0"/>
          <p:cNvSpPr/>
          <p:nvPr/>
        </p:nvSpPr>
        <p:spPr>
          <a:xfrm>
            <a:off x="5397480" y="5524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51"/>
          <p:cNvSpPr/>
          <p:nvPr/>
        </p:nvSpPr>
        <p:spPr>
          <a:xfrm>
            <a:off x="567684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52"/>
          <p:cNvSpPr/>
          <p:nvPr/>
        </p:nvSpPr>
        <p:spPr>
          <a:xfrm>
            <a:off x="5956200" y="5937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4"/>
          <p:cNvSpPr/>
          <p:nvPr/>
        </p:nvSpPr>
        <p:spPr>
          <a:xfrm>
            <a:off x="5855400" y="57229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6"/>
          <p:cNvSpPr/>
          <p:nvPr/>
        </p:nvSpPr>
        <p:spPr>
          <a:xfrm rot="10800000">
            <a:off x="6585120" y="4457520"/>
            <a:ext cx="1707840" cy="1284120"/>
          </a:xfrm>
          <a:prstGeom prst="pi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9"/>
          <p:cNvSpPr/>
          <p:nvPr/>
        </p:nvSpPr>
        <p:spPr>
          <a:xfrm>
            <a:off x="165636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B747CED0-D26F-4DBD-A642-0A5CD60A5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82040" y="1981080"/>
            <a:ext cx="787320" cy="278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268" name="Rectangle 6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3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5019120" y="1900080"/>
            <a:ext cx="7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855040" y="190008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615440" y="1919160"/>
            <a:ext cx="87732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9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282" name="Group 20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283" name="Text Box 21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23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286" name="Text Box 24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26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289" name="Text Box 27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9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292" name="Text Box 30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2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295" name="Text Box 33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5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298" name="Text Box 36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38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301" name="Text Box 39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41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304" name="Group 42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305" name="Text Box 43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4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5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308" name="Text Box 46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47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8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311" name="Text Box 49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51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314" name="Text Box 52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53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54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317" name="Text Box 55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56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7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320" name="Text Box 58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60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323" name="Text Box 61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63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326" name="Rectangle 64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65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328" name="Line 66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67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8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69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70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1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73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336" name="Line 74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76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7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78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79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80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81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2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84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347" name="Text Box 85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6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87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88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89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90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91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92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355" name="Text Box 93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95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96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7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8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9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0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1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02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03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104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5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6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4"/>
          <p:cNvSpPr/>
          <p:nvPr/>
        </p:nvSpPr>
        <p:spPr>
          <a:xfrm>
            <a:off x="5047560" y="4757760"/>
            <a:ext cx="13222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ure 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5"/>
          <p:cNvSpPr/>
          <p:nvPr/>
        </p:nvSpPr>
        <p:spPr>
          <a:xfrm rot="10800000">
            <a:off x="6490800" y="4219560"/>
            <a:ext cx="1979640" cy="164160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6"/>
          <p:cNvSpPr/>
          <p:nvPr/>
        </p:nvSpPr>
        <p:spPr>
          <a:xfrm>
            <a:off x="169452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erf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20"/>
          <p:cNvSpPr/>
          <p:nvPr/>
        </p:nvSpPr>
        <p:spPr>
          <a:xfrm>
            <a:off x="4286160" y="4241880"/>
            <a:ext cx="1790640" cy="212724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1"/>
          <p:cNvSpPr/>
          <p:nvPr/>
        </p:nvSpPr>
        <p:spPr>
          <a:xfrm>
            <a:off x="4126320" y="5608800"/>
            <a:ext cx="96408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mper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2"/>
          <p:cNvSpPr/>
          <p:nvPr/>
        </p:nvSpPr>
        <p:spPr>
          <a:xfrm flipV="1">
            <a:off x="4635360" y="5429160"/>
            <a:ext cx="298440" cy="17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3"/>
          <p:cNvSpPr/>
          <p:nvPr/>
        </p:nvSpPr>
        <p:spPr>
          <a:xfrm flipH="1">
            <a:off x="5213520" y="5086440"/>
            <a:ext cx="27288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07"/>
          <p:cNvSpPr/>
          <p:nvPr/>
        </p:nvSpPr>
        <p:spPr>
          <a:xfrm>
            <a:off x="4282920" y="4292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8"/>
          <p:cNvSpPr/>
          <p:nvPr/>
        </p:nvSpPr>
        <p:spPr>
          <a:xfrm>
            <a:off x="4541760" y="480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09"/>
          <p:cNvSpPr/>
          <p:nvPr/>
        </p:nvSpPr>
        <p:spPr>
          <a:xfrm>
            <a:off x="4827600" y="52322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10"/>
          <p:cNvSpPr/>
          <p:nvPr/>
        </p:nvSpPr>
        <p:spPr>
          <a:xfrm>
            <a:off x="5118120" y="5695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1"/>
          <p:cNvSpPr/>
          <p:nvPr/>
        </p:nvSpPr>
        <p:spPr>
          <a:xfrm>
            <a:off x="5397480" y="5904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12"/>
          <p:cNvSpPr/>
          <p:nvPr/>
        </p:nvSpPr>
        <p:spPr>
          <a:xfrm>
            <a:off x="5676840" y="604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3"/>
          <p:cNvSpPr/>
          <p:nvPr/>
        </p:nvSpPr>
        <p:spPr>
          <a:xfrm>
            <a:off x="5956200" y="62596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825480" y="0"/>
            <a:ext cx="8318520" cy="10288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8A7B446B-2DB0-4C25-963C-A32D9F2E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unt purchased at different resource prices, all else the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e firm, equal to M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demand equals sum of firm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wnsloping because of DM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ice for imperfect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B03F524-168C-4692-9188-16964025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3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359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45680" y="1730160"/>
            <a:ext cx="7417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product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pro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ies of other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of variable re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F91A777-A359-4207-B4A1-89A5994A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8:09:23Z</dcterms:created>
  <dc:creator>C. Norman Hollingsworth</dc:creator>
  <dc:description/>
  <dc:language>en-US</dc:language>
  <cp:lastModifiedBy>sbalazs</cp:lastModifiedBy>
  <dcterms:modified xsi:type="dcterms:W3CDTF">2010-04-01T12:22:44Z</dcterms:modified>
  <cp:revision>165</cp:revision>
  <dc:subject>McConnell-Brue Economics</dc:subject>
  <dc:title>Chapter 25</dc:title>
</cp:coreProperties>
</file>